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E553-2EF4-4ED9-BEC0-27AB611E8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F5BF-32F4-4740-90EC-E70D2718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6C1D-B679-4D6F-BB2B-50A649EC9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53F3-6FF1-4B00-A6DC-749A74C6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4C2A-4561-4CAF-A577-1019452E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0B93-7C42-4A2F-BE2A-FF0E9EA9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9117-33FC-4BBE-AAE7-BD1FAA11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09F0-843C-4B63-97E5-BFF2C4EE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F905-6EC4-4B87-8729-2348D4B2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4C5F-DFD5-4220-996A-F57000D9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3A01-096D-4B8C-93A8-4D94F14B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147B-0FA6-41FD-89A8-DD0D84F8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471B7-AD8E-4E19-B57B-E496C0ED9576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Beneficios del Pensamiento Sistémic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Influencia en la Vida Dia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Observar patrones detras de los ev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ás control sobre su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ás control sobre su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ás control sobre sus re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ejor capcidad Predic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Ejemplo 3: Comunicació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3280" y="1768320"/>
            <a:ext cx="9069480" cy="49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Ejemplo 4:  El Inodor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36720" y="2340000"/>
            <a:ext cx="828036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Observacion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El concepto de retroalimentación es simple y ubicu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Casi siempre no los percibi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FeedBack en Máquinas (no hay control human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Máquina de vap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Termost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Circuitos Electrón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Tipos de FeedBack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FeedBack de Refuerzo  (Posi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Puede ser bueno o ma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Lleva a crecimiento o de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(depende de cómo arranq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3000"/>
              </a:lnSpc>
              <a:spcAft>
                <a:spcPts val="1137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Bola de Nie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Al rodar recoge nie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Al recoger nieve se hace más gr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Al aumentar de tamaño recoge más nieve, 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AVALANC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3000"/>
              </a:lnSpc>
              <a:spcAft>
                <a:spcPts val="1137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Ejemplo 1 : Bola de Niev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3600" spc="-1" strike="noStrike">
                <a:solidFill>
                  <a:srgbClr val="000000"/>
                </a:solidFill>
                <a:latin typeface="Arial"/>
              </a:rPr>
              <a:t>Al rodar recoge nie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3600" spc="-1" strike="noStrike">
                <a:solidFill>
                  <a:srgbClr val="000000"/>
                </a:solidFill>
                <a:latin typeface="Arial"/>
              </a:rPr>
              <a:t>Al recoger nieve se hace más gra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3600" spc="-1" strike="noStrike">
                <a:solidFill>
                  <a:srgbClr val="000000"/>
                </a:solidFill>
                <a:latin typeface="Arial"/>
              </a:rPr>
              <a:t>Al aumentar de tamaño recoge más nieve, etc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3600" spc="-1" strike="noStrike">
                <a:solidFill>
                  <a:srgbClr val="000000"/>
                </a:solidFill>
                <a:latin typeface="Arial"/>
              </a:rPr>
              <a:t>AVALANCH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Ejemplo 2: Cuenta Bancari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Deposito Inicial : $1000   (Interés 1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Gana Interés por el Deposito ($1,1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Siguiente mes  ( $1,100 +  $110 = $ 1210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En siete años </a:t>
            </a:r>
            <a:r>
              <a:rPr b="0" lang="es-CO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 $2,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Se dobla cada siete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Si dobla una hoja  a la mitad , tendrá el doble de grosor. Si se realice esta operación de manera repetida 40 veces, ¿Qué grosor tendrá el pedazo de Pap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Historia del Ajedr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Casilla 2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Un millón de gr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Casilla 64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761080" y="2050920"/>
            <a:ext cx="36194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Un Círculo Vicios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92000" y="1763640"/>
            <a:ext cx="856944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Ejemplos Adicional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Moral de U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Pá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Amplificación de Son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Crecimiento de Cél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Crecimiento de pob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Rum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Beneficios del Pensamiento Sistémic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anejo de problem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aneras efectivas de resolver probl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Nuevas maneras de pensar los probl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Diferentes Perspec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Feedback Estabilizado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Nada crece para siemp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Eventualmente se limita el cre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Se opone al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Los cambios en el resto del sistema se oponen  o restringen el cambio ini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Se llama también feedback neg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No es ni bueno ni m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Solo se resiste al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Ejemplos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Inodoro (Los vimos an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Otr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Temperatura del cuer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Termos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Inventario de un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Oferta-Dem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Predador-P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Enferme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Observacion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Si se quiere cambiar un sist complej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Feedback es resistencia al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Si quiere mantener un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FeedBack es est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FeedBack siempre tiene un objetivo (así sea el permanecer est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Siempre reduce la difeencia entre lo que es y lo que debe 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Más cerca el sistema al objetivo, menor la dif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Más Ejempl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Aire Acondicio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Nivel e azu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Su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Escri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Manejar un car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FeedForward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Anticipar el fut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Evento que no ha pasado (efecto) dispara una causa en el pres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Rumores que una acción va a baj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Rumores que un banco se quebr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Escasez de Gasol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Pensamiento estructural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El problema se encuentra casi siempre  en la Estructura del sis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Ir más lejos que encontrar culpables (lo exter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yuda al trabajo de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Reestructuración de Proce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Retroalimentació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ensamiento Sistém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Pensamiento en Bucles (Círcul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odas las partes de un sistema están conectadas ( de manera directa o indirect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Un cambio se transmite a todo el sis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Bucle de retroalimentació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03280" y="1768320"/>
            <a:ext cx="9069480" cy="49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Propiedad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Es Bidireccio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Línea telefó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La experiencia está llena de Bucles de Retroaliment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A veces no percibimos los bu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El efecto siempre influye en la cau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Un Ejempl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La 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Al tomar la sed disminuye, toma me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Cuando hay satisfacción se deja de tom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La sed influye en la cantidad que se t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La cantidad que se toma influye en la 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PARECE UNA SOLA ACCIÓN PERO ES UN BUCL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Bucle Se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079640" y="1908000"/>
            <a:ext cx="856908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Ejemplo</a:t>
            </a: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Dedo Sobre Un punto en un tex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Ojos abie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Ojos cer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Ojos alimentan al dedo de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Posición del dedo alimenta al o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Ajustes continuos en fracciones de seg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Ojos miden constantemente la difer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15:53:01Z</dcterms:created>
  <dc:creator>alf </dc:creator>
  <dc:description/>
  <dc:language>en-US</dc:language>
  <cp:lastModifiedBy>WinuE</cp:lastModifiedBy>
  <dcterms:modified xsi:type="dcterms:W3CDTF">2012-02-27T21:26:53Z</dcterms:modified>
  <cp:revision>21</cp:revision>
  <dc:subject/>
  <dc:title>Beneficios del Pensamiento Sistémico</dc:title>
</cp:coreProperties>
</file>